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931-D2A2-4C7E-B8DD-2E2A8699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A46-5C7E-45D3-AB99-55B1FEBA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257-114B-4F64-A75B-11DD788A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690-4E21-4BDD-A3F8-6F6DDE25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647-27A6-49E5-9258-DD18C4A0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EBD-BA85-4644-A7A9-7660B8D2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742-DAB9-4D41-B4B2-1A43601A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FEF-DC68-49CF-8E0D-76E2D857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7E4-0207-435B-B2FD-F958D03D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DB0-6B08-446D-B683-34FBA59E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00F-5D51-4D51-9105-80C91A45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52D-C6B9-4485-8845-F0A5B388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CBCE-5F19-42B5-B5F8-803B715F9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mperfecto de subjun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ormac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 la forma ‘ellos’ del pr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r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ca ‘on’    bailar  -&gt;   bailaron  -&gt; ba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añade las termin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          ‘ 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          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           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1600200"/>
          <a:ext cx="9143640" cy="472392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rito ell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tiv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ant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o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po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te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63760" y="1781280"/>
            <a:ext cx="32925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71600"/>
          <a:ext cx="3208320" cy="5181480"/>
        </p:xfrm>
        <a:graphic>
          <a:graphicData uri="http://schemas.openxmlformats.org/drawingml/2006/table">
            <a:tbl>
              <a:tblPr/>
              <a:tblGrid>
                <a:gridCol w="1584360"/>
                <a:gridCol w="16239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d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duv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ducir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du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j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cir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j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uv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c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ic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us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ud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er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is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b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p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uv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er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j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eni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n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74680" y="2774880"/>
            <a:ext cx="80470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419720" y="2743200"/>
          <a:ext cx="3504960" cy="1752480"/>
        </p:xfrm>
        <a:graphic>
          <a:graphicData uri="http://schemas.openxmlformats.org/drawingml/2006/table">
            <a:tbl>
              <a:tblPr/>
              <a:tblGrid>
                <a:gridCol w="1930320"/>
                <a:gridCol w="1087560"/>
                <a:gridCol w="244440"/>
                <a:gridCol w="24264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r &amp; S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went on vacation, I would go to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were rich, I would buy an air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uld buy an airplane if I were r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yo ____________ (tener) el dinero yo _____________ (comprar) una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Carmen ___________ (buscar) un trabajo, ____________ (querer) ser una enfer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__________ (estar) muy feliz si Uds. _____________ (sacar) buenas no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ú ____________ (divertirse) si ____________ (ir) al carna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6:22:27Z</dcterms:created>
  <dc:creator>jbarber</dc:creator>
  <dc:description/>
  <dc:language>en-US</dc:language>
  <cp:lastModifiedBy>jbarber</cp:lastModifiedBy>
  <dcterms:modified xsi:type="dcterms:W3CDTF">2009-06-01T11:25:39Z</dcterms:modified>
  <cp:revision>6</cp:revision>
  <dc:subject/>
  <dc:title>El imperfecto de subjuntivo</dc:title>
</cp:coreProperties>
</file>